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wmf" ContentType="image/x-wmf"/>
  <Override PartName="/ppt/media/image10.png" ContentType="image/png"/>
  <Override PartName="/ppt/media/image2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6.wmf" ContentType="image/x-wmf"/>
  <Override PartName="/ppt/media/image1.jpeg" ContentType="image/jpeg"/>
  <Override PartName="/ppt/media/image7.png" ContentType="image/png"/>
  <Override PartName="/ppt/media/image3.png" ContentType="image/png"/>
  <Override PartName="/ppt/media/image11.wmf" ContentType="image/x-wmf"/>
  <Override PartName="/ppt/media/image12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29F4-21E2-431D-B495-CD130EC8A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3F21-608E-4A0C-8290-981EDA47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F883E-465F-465E-B646-1A61134B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12791-BA04-41E0-B337-DA41EF30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3C3EB-AB61-4F0F-AFFD-EBC42E9D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10F3BF-9F74-4FA9-AB71-D7AA214F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1D1D71-F4FC-4EEE-9B48-F0E82E5D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B6BD43-3C70-498C-9250-BEF3F89B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AEAA5-8DF3-499C-B146-F08097C2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917967-D22C-47C0-8F2C-F1901034D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1089FB-FD64-4EC4-9644-E5AD56CEA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A68120-3F81-4826-BE05-1DF976E66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531F-43D6-40E5-B0CA-D46EE10CB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927AA8-69D4-4149-9491-BFE426DA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FE2751-C92B-45C7-97F6-7E0421F6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E14860-9A23-48B9-8C78-B1F1CD76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622B02-A631-4985-A214-09E2BB8B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18BCB2-2B0E-4183-AD21-2BFF691C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48A220-F33A-43C5-AF6C-E3C4FB3E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909DC1-32E3-4BB4-B8A1-9383C97A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9454E3-4CCB-4BA6-B5F3-AB1BB5FA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DC25E3-F718-4E72-9608-E55E114A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D15695-B43C-4DB8-9C89-26AA05522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C8EA-D071-43D4-9319-A9392C802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DFBF7E-2B91-4D21-B926-B04CB0CA0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87E7F6-0331-4BC1-94C5-1726FE733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30362-D014-4247-8C6A-2ABDBB7A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E0A25-0E9A-4413-9703-E40FBD1A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1055C-A843-4941-8836-12A06643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337BB-47BB-40D7-93C5-4ECB606D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F9880-8590-4219-B449-72FEF449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B96F94-2E39-4764-9A11-035E5534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E57E4-0BAD-4C60-BA03-806789E2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0A265-DBF2-43FA-9D1C-853E3D54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DA0E2-7D5E-4C0C-A30C-F501E44D5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403C4-EB25-4F7D-A0BC-AADF2FA2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DAB83D-F605-42F5-8ECE-25EFC8570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C4690-2BCE-450F-B93C-5C286C5B4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E5470C-277C-4144-8B7D-72EC82446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92EFDA-D6B3-409B-BB5C-AD01B78E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BEC2FD-38B2-4306-8C5D-336D4611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26DB33-A56B-4E5A-A3C1-A6771A8C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9963D3-6CCB-497E-8422-69AEF61D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9A1771-7B8E-46DD-BF0D-8C78F1DE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CF94CC-3D4A-413C-AD7A-B782A309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299C-5703-4CDB-98FD-E6508A02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7DD3C5-C083-4B80-A3C4-9362FBEB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D88BC0-9E9C-43BE-A5D7-5C31C286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93DE0A-C815-468A-BA67-83A486ED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9F8DD8-E80F-4606-99E4-459980502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6CD0A9-ACBE-4512-8ED6-6C4F8B24B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A8E7D-7E01-4896-BD68-230638C8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4671-504E-4E90-A2D6-325CB21E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3678-5AC8-44FE-90EE-74E94944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70EC-536D-4B87-A2F7-B383A739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BCB4-8D95-448D-8A08-A0C97E86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125D-7293-4933-9264-4BCE802A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6DF7-743C-4B7B-801D-6733B903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8EE44-0AA0-46F2-B124-B6E1F7E0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8E2F-4150-4E2B-80C5-1C2E8328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FFEEC-59E4-4E4A-AE52-E84058E1F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22F5-17DC-4BF7-A786-EDAF7E3BF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E8479-ED39-4F0B-B339-2066868CD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0163A-1599-41EC-89AC-44036346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7F693-C9DF-471A-86A1-6F6548BA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94344-2FEB-4AD5-98F6-2B046029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522C3-0AA6-4564-B358-F33A24FF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4DF3-6406-41DA-B0F8-B651D579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6E8EC-B432-4A59-87D4-41F32DDE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AC83B-F507-4F93-A86F-667C5823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A7F5C-0C10-4C62-88A2-6A2C989C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18C24-F63C-49D5-AF63-F89C5576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C32E2-D3DA-41E6-B53B-8912F9F1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05E05-3F23-4ED2-A4E2-86EC83EC7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C1D5C-250D-4FFD-9C99-BF843EEF7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8854B-67D7-4C58-885C-3888D34A2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0EE0C-2188-4950-A6C1-13D22979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BA30E-1EEE-4A3C-96E9-FF611110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774D-8BC4-49BF-A846-FDC627BE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1AC08-CFBA-48F9-9B73-1D14EB63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8DB03-EB76-4B13-86FD-A163B5BD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0FA32-9486-48B0-9135-D58F5AE6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858D6-9F86-4793-9F2C-D6B99B7F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26C2A-97ED-4760-B3C6-0F15461F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C2530-B1F4-4204-A8E3-E6F35797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499B5-4BA5-4E91-AD72-E929C978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BF534-7E57-434E-A400-676B0BE19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D3D0E-84B3-4656-BA5E-410CED79F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A78CB-8860-4A6D-900F-A82C802CA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6C7B-C859-4528-933A-97953AD3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E9679-08EF-4560-A527-7734E9CE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B02A2-DB18-40F2-863F-CF1FFF7A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0D6BB-C1C3-4C1B-BA60-B937DF3F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C6B3A-4DAF-4427-8D56-246A43A09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0BF1E-8E0E-423A-80F7-C326EEAD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5DCF0-832B-4FD7-9CFE-B709C3EC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E1179-AC26-452A-90B8-82006B06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2A69C-B6F0-4AD2-9C6A-C95B8C86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5995C-FF59-41A1-A6CF-8E1D0B02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6367A-8F5C-4EE0-928F-2F031CFED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DFF3-E9DA-4D76-B152-05483DD5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A16B2-989A-4348-A76F-6FDE9942C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5C0C3-2A80-43A9-8BD3-7CFA934AD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D7A92-BE40-4D1F-AB0C-9917A838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F9332-3087-46D6-9EB3-0410C9C7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B1924-9108-45EE-B639-240E3957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A50E7-B5FD-4329-B5A0-D7364998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9B69A-F246-4938-80D6-D991A404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4FE8E-97CC-4D7D-8F6A-4DF920BD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A29A2-5F79-4326-8FE3-BB9A7B16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17D28-D147-4616-8C11-035D3563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6696-2158-4E8C-9B85-0E1D9030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AE1A5-DD57-4FB9-8C83-F69F26C6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52639-E43F-4EE9-A6A8-6D40CE3CC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2C76A-56AC-4DF2-B83B-D86168F04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B3F1F-3938-46E4-8DF6-9D77A969C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2E189-0497-4412-8177-09AC47EA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B156D-5474-45B7-B3A1-0253EA46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F670B-9DD1-4737-91CE-752D384F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52FAB-3DE2-45D3-BC47-56D94B06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958A4-BFD5-4106-A905-2E68F622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E2FEC-47DB-4E2A-9E4A-D598E04D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CEC3-AAAC-4151-AB8D-20593881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ECF9E-B2F0-4F7E-98E8-A6C68532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6E873-007E-4B29-816C-5D0CECC7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6508E-C7FA-4AD2-9F55-20B78EA0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D9BF2-F6A1-4600-927F-047E65AA4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25743-FA19-48B6-8D2F-BE154D51C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1B650-CE67-42A7-85AD-854000C48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14D8D-0967-4C97-BC9B-D6426875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90714-68C6-4611-B5C6-208724EE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9BDBF-4463-4569-B692-95C022E8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CB141-DB85-492F-9335-0B13E1DF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D103-AE96-4C69-B7D7-A6D13DB1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F8247-1D81-4396-806E-2A598AF4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862A3-7825-4FF5-A283-4674BD62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D16AD-1B07-4A9D-AE7F-D10DB743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DE123-1479-4E95-9455-8D5F3A4C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CBBDB-13F6-4F2F-8DDC-18CEC8A2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F5EF9-5490-4703-89D8-6B62B6055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DA979-FAE9-44F2-BFC1-46DC30A04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BD6A98-5A7A-47A0-8BD7-C864F0AA5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110C29-FCAE-4A14-B4A6-23F1EF93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F00047-BEB2-41BE-823F-63064E74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1AD7-EEF4-4B21-A96D-F3B5D1AE943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388" name="Slika 6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993F-2AE4-4309-878B-AB4BDBF220D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431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79DC-EC18-4F72-8188-380F342EB71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474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146A-3AE5-405E-ACF5-77B61120792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43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88F9-9B13-4D06-B66A-FB99E3B7EF3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86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BCC0-7F92-4C8B-BDD4-E72F1C064AF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129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B553-1D08-46B3-A1F2-9311C4A50FE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172" name="Slika 6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0CE4-385C-45DE-B7C4-71D23E3DBCE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215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120C-D893-437F-8C8F-FBED8DC7812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258" name="Slika 6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0E42-3C06-47B0-B735-BB70D59B3BC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301" name="Slika 6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79D4-80BB-4B56-B0D2-B7DAF1676EE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344" name="Slika 6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345" name="Slika 6" descr=""/>
          <p:cNvPicPr/>
          <p:nvPr/>
        </p:nvPicPr>
        <p:blipFill>
          <a:blip r:embed="rId5"/>
          <a:stretch/>
        </p:blipFill>
        <p:spPr>
          <a:xfrm>
            <a:off x="152280" y="15228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B5DF-59DE-40B5-B73E-3BA310B52AF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Arial"/>
                <a:ea typeface="Arial"/>
              </a:rPr>
              <a:t>Tla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648320" y="571464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Arial"/>
                <a:ea typeface="Arial"/>
              </a:rPr>
              <a:t>Međudjelovanje i si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Box 4"/>
          <p:cNvSpPr/>
          <p:nvPr/>
        </p:nvSpPr>
        <p:spPr>
          <a:xfrm>
            <a:off x="380880" y="14479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ašto se po dubokom snijegu lakše krećeš na skijama nego pješ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ašto neki građevinski strojevi imaju gusjenice umjesto kotač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2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2863800" cy="3808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5" descr=""/>
          <p:cNvPicPr/>
          <p:nvPr/>
        </p:nvPicPr>
        <p:blipFill>
          <a:blip r:embed="rId2"/>
          <a:stretch/>
        </p:blipFill>
        <p:spPr>
          <a:xfrm>
            <a:off x="4343400" y="3352680"/>
            <a:ext cx="32958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Box 4"/>
          <p:cNvSpPr/>
          <p:nvPr/>
        </p:nvSpPr>
        <p:spPr>
          <a:xfrm>
            <a:off x="0" y="1143000"/>
            <a:ext cx="795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oliko opeka ut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1"/>
          <p:cNvSpPr/>
          <p:nvPr/>
        </p:nvSpPr>
        <p:spPr>
          <a:xfrm>
            <a:off x="1440000" y="4952880"/>
            <a:ext cx="6405120" cy="1191240"/>
          </a:xfrm>
          <a:prstGeom prst="rect">
            <a:avLst/>
          </a:prstGeom>
          <a:solidFill>
            <a:srgbClr val="dce6f2"/>
          </a:solidFill>
          <a:ln w="93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z istu silu učinak je to veći što je ma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vršina na koju sila djeluj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6" descr=""/>
          <p:cNvPicPr/>
          <p:nvPr/>
        </p:nvPicPr>
        <p:blipFill>
          <a:blip r:embed="rId1"/>
          <a:stretch/>
        </p:blipFill>
        <p:spPr>
          <a:xfrm>
            <a:off x="2743200" y="2163600"/>
            <a:ext cx="4046400" cy="2289240"/>
          </a:xfrm>
          <a:prstGeom prst="rect">
            <a:avLst/>
          </a:prstGeom>
          <a:ln w="0">
            <a:noFill/>
          </a:ln>
        </p:spPr>
      </p:pic>
      <p:pic>
        <p:nvPicPr>
          <p:cNvPr id="524" name="Slika 5" descr=""/>
          <p:cNvPicPr/>
          <p:nvPr/>
        </p:nvPicPr>
        <p:blipFill>
          <a:blip r:embed="rId2"/>
          <a:stretch/>
        </p:blipFill>
        <p:spPr>
          <a:xfrm>
            <a:off x="228600" y="1158840"/>
            <a:ext cx="135720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Box 4"/>
          <p:cNvSpPr/>
          <p:nvPr/>
        </p:nvSpPr>
        <p:spPr>
          <a:xfrm>
            <a:off x="-31680" y="1279440"/>
            <a:ext cx="79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oliko opeka ut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11"/>
          <p:cNvSpPr/>
          <p:nvPr/>
        </p:nvSpPr>
        <p:spPr>
          <a:xfrm>
            <a:off x="1570680" y="4952880"/>
            <a:ext cx="6145920" cy="1191240"/>
          </a:xfrm>
          <a:prstGeom prst="rect">
            <a:avLst/>
          </a:prstGeom>
          <a:solidFill>
            <a:srgbClr val="dce6f2"/>
          </a:solidFill>
          <a:ln w="93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jelovanje sile preko jednake površ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je veće što je sila već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8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668840" cy="2895840"/>
          </a:xfrm>
          <a:prstGeom prst="rect">
            <a:avLst/>
          </a:prstGeom>
          <a:ln w="0">
            <a:noFill/>
          </a:ln>
        </p:spPr>
      </p:pic>
      <p:pic>
        <p:nvPicPr>
          <p:cNvPr id="528" name="Slika 5" descr=""/>
          <p:cNvPicPr/>
          <p:nvPr/>
        </p:nvPicPr>
        <p:blipFill>
          <a:blip r:embed="rId2"/>
          <a:stretch/>
        </p:blipFill>
        <p:spPr>
          <a:xfrm>
            <a:off x="380880" y="762120"/>
            <a:ext cx="1357560" cy="66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4920" y="720720"/>
            <a:ext cx="822960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7375e"/>
                </a:solidFill>
                <a:latin typeface="Arial"/>
                <a:ea typeface="Arial"/>
              </a:rPr>
              <a:t>Tlak</a:t>
            </a:r>
            <a:r>
              <a:rPr b="0" lang="hr-HR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TextBox 3"/>
          <p:cNvSpPr/>
          <p:nvPr/>
        </p:nvSpPr>
        <p:spPr>
          <a:xfrm>
            <a:off x="500040" y="1214280"/>
            <a:ext cx="790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jelovanje sile na podlogu opisujemo fizikalnom veličinom koju nazivam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la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Object 2"/>
              <p:cNvSpPr txBox="1"/>
              <p:nvPr/>
            </p:nvSpPr>
            <p:spPr>
              <a:xfrm>
                <a:off x="4572000" y="2895480"/>
                <a:ext cx="341136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lak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l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loština površin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2" name="TextBox 3"/>
          <p:cNvSpPr/>
          <p:nvPr/>
        </p:nvSpPr>
        <p:spPr>
          <a:xfrm>
            <a:off x="380880" y="28195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lak označujemo 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Object 3"/>
              <p:cNvSpPr txBox="1"/>
              <p:nvPr/>
            </p:nvSpPr>
            <p:spPr>
              <a:xfrm>
                <a:off x="990720" y="4419720"/>
                <a:ext cx="15397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4" name="TextBox 3"/>
          <p:cNvSpPr/>
          <p:nvPr/>
        </p:nvSpPr>
        <p:spPr>
          <a:xfrm>
            <a:off x="3048120" y="4419720"/>
            <a:ext cx="5638680" cy="1191240"/>
          </a:xfrm>
          <a:prstGeom prst="rect">
            <a:avLst/>
          </a:prstGeom>
          <a:solidFill>
            <a:srgbClr val="dbeef4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lak je k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lični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i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komite n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površinu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loštin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te površ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6" descr="manometar"/>
          <p:cNvPicPr/>
          <p:nvPr/>
        </p:nvPicPr>
        <p:blipFill>
          <a:blip r:embed="rId1"/>
          <a:stretch/>
        </p:blipFill>
        <p:spPr>
          <a:xfrm>
            <a:off x="6019920" y="1295280"/>
            <a:ext cx="2609640" cy="261000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810720"/>
            <a:ext cx="8229600" cy="6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7375e"/>
                </a:solidFill>
                <a:latin typeface="Arial"/>
                <a:ea typeface="Arial"/>
              </a:rPr>
              <a:t>Jedinica tl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7" name="Picture 2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3643200" cy="2286000"/>
          </a:xfrm>
          <a:prstGeom prst="rect">
            <a:avLst/>
          </a:prstGeom>
          <a:ln w="0">
            <a:noFill/>
          </a:ln>
        </p:spPr>
      </p:pic>
      <p:sp>
        <p:nvSpPr>
          <p:cNvPr id="538" name="TextBox 4"/>
          <p:cNvSpPr/>
          <p:nvPr/>
        </p:nvSpPr>
        <p:spPr>
          <a:xfrm>
            <a:off x="497880" y="3962520"/>
            <a:ext cx="7382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askal  P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jedinica tl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nazvana u čast francuskog fizičara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Blais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Pa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2" descr=""/>
          <p:cNvPicPr/>
          <p:nvPr/>
        </p:nvPicPr>
        <p:blipFill>
          <a:blip r:embed="rId3"/>
          <a:stretch/>
        </p:blipFill>
        <p:spPr>
          <a:xfrm>
            <a:off x="4267080" y="3657600"/>
            <a:ext cx="1905120" cy="127800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7"/>
          <p:cNvSpPr/>
          <p:nvPr/>
        </p:nvSpPr>
        <p:spPr>
          <a:xfrm>
            <a:off x="6534720" y="3995640"/>
            <a:ext cx="182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Manometar – sprava z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mjerenje tlaka zra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Box 2"/>
          <p:cNvSpPr/>
          <p:nvPr/>
        </p:nvSpPr>
        <p:spPr>
          <a:xfrm>
            <a:off x="344880" y="1523880"/>
            <a:ext cx="8078040" cy="109908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olikim tlakom kvadar težine 12 N djeluje na pod ako je plošt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tranice na kojoj on leži 6 cm²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3"/>
          <p:cNvSpPr/>
          <p:nvPr/>
        </p:nvSpPr>
        <p:spPr>
          <a:xfrm>
            <a:off x="1143000" y="2743200"/>
            <a:ext cx="4419720" cy="32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ješen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12 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6 cm² = 0,0006 m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/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 12 N / 0,0006 m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20 000 P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Slika 1" descr=""/>
          <p:cNvPicPr/>
          <p:nvPr/>
        </p:nvPicPr>
        <p:blipFill>
          <a:blip r:embed="rId1"/>
          <a:stretch/>
        </p:blipFill>
        <p:spPr>
          <a:xfrm>
            <a:off x="304920" y="1014480"/>
            <a:ext cx="101592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Box 2"/>
          <p:cNvSpPr/>
          <p:nvPr/>
        </p:nvSpPr>
        <p:spPr>
          <a:xfrm>
            <a:off x="340200" y="1523880"/>
            <a:ext cx="778860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Znajući svoju težinu i odredivši ploštinu stopala, izračunaj tla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ojim tvoja stopala pritišću pod. Usporedi ga s tlakom na p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ad stojiš na jednoj noz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2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611360" cy="65736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3" descr=""/>
          <p:cNvPicPr/>
          <p:nvPr/>
        </p:nvPicPr>
        <p:blipFill>
          <a:blip r:embed="rId2"/>
          <a:stretch/>
        </p:blipFill>
        <p:spPr>
          <a:xfrm>
            <a:off x="3352680" y="3276720"/>
            <a:ext cx="2306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Box 3"/>
          <p:cNvSpPr/>
          <p:nvPr/>
        </p:nvSpPr>
        <p:spPr>
          <a:xfrm>
            <a:off x="268560" y="1676520"/>
            <a:ext cx="827316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Što je tla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oja je mjerna jedinica za tla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Čemu je mjerna jedinica paskal jedna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 čemu ovisi tlak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zračunaj tlak kojim dječak težine 450 N djeluje na pod ako j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loština njegovih stopala 360 cm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Slika 1" descr=""/>
          <p:cNvPicPr/>
          <p:nvPr/>
        </p:nvPicPr>
        <p:blipFill>
          <a:blip r:embed="rId1"/>
          <a:stretch/>
        </p:blipFill>
        <p:spPr>
          <a:xfrm>
            <a:off x="200160" y="914400"/>
            <a:ext cx="31017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1:40:26Z</dcterms:created>
  <dc:creator>Slavko</dc:creator>
  <dc:description/>
  <dc:language>en-US</dc:language>
  <cp:lastModifiedBy>Tomislav Dumančić</cp:lastModifiedBy>
  <dcterms:modified xsi:type="dcterms:W3CDTF">2019-09-17T08:56:26Z</dcterms:modified>
  <cp:revision>63</cp:revision>
  <dc:subject/>
  <dc:title>Slide 1</dc:title>
</cp:coreProperties>
</file>